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B2E3-9E7D-4308-A46B-8D222CD97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9D85-A538-4BA6-AEC2-BB8F5BCB1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www.scientificamerican.com/article.cfm?id=1000-genomes-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4B0C-79B0-4ACD-95D7-484A705F7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bc.co.uk/schools/gcsebitesize/science/add_gateway_pre_2011/living/cloningrev4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0D3B-438B-4B59-BD23-28078F67E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9reproduction.wikispaces.com/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link to Dolly the Sheep: https://www.youtube.com/watch?v=YoEWYJHf0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C436-EA1F-45ED-BA96-4A1DFD012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interesting video on cloning stem cells for organ transplants: https://www.youtube.com/watch?v=pPz8LEQq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6BDE-B93D-4543-861B-3A434462D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ailymail.co.uk/sciencetech/article-1131349/Couple-devastated-death-beloved-dog-pay-100-000-clone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lot di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ean company BioArts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xb5404.blogspot.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0AF2-CD23-4CBF-AD6B-6CF87FEFC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18E1-1E53-4EE5-8ABB-4C493322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mmortalhumans.com/the-potential-good-of-human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 about human cloning: https://www.youtube.com/watch?v=7tbxN5uwaq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ck12.org/book/CK-12-Biology-Concepts/section/3.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75C1-6FD5-4124-A28C-5340AE0B9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6193-9366-479D-B29A-4DA278B0E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appinions.com/2012/03/06/a-look-at-the-pros-and-cons-of-digital-influe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F9F8-F48E-4DCA-A602-3F34F66AA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8CDF-0A47-43F4-AF60-08C58E23C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dandelion from: http://www.dandeliondelight.com/dandelion-roo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strawberry from: http://www.livinggardenseries.com/move-strawberries-now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28A9-1947-4E2E-9A8A-6FF15F038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Hydra budding: http://www.studyblue.com/notes/note/n/saoutis-cells/deck/66877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yeast budd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EA99-D57C-4259-A592-7D965403E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shadylanetreecare.com/tree-insect-control-aph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cycle image from: http://userwww.sfsu.edu/biol240/labs/lab_15animallifecycles/pages/15asexu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37A0-3E26-4252-A7B3-9C7D317F1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ii/cell-reproduction/mitosi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A3AB-069F-43F6-8473-9DE3F4278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me.comcast.net/~clupold96/notes%20pages/chromosomes_tip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B1F-4403-498F-8D34-A0E45D6F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8CB-3989-472A-8EF4-CC726024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10C-67BF-4B1B-98BB-83D6D3E0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70E-B43A-4F33-BDEC-DAC76A7C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D3D-0A09-4468-A585-62D4E6BD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DB0-CEE8-4CC1-BE0C-F8AFCEDD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F3A-F42F-4DE6-AC6A-1A795F0B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F02-2119-4700-916F-C0EDC80F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1F9-6BDB-4AE9-9B39-71BF4A62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0EC-97B3-4465-B808-DD8C2615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227-CFA7-40FE-AE09-9DDD47B1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E3C-EBC8-4755-893D-416DA135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13EA-2DE8-44CA-B09F-82E67E630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oEWYJHf0kU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7tbxN5uwaqA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s://www.youtube.com/watch?v=R-EyDKCRM_U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 &amp; A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 &amp;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iplantcloning"/>
          <p:cNvPicPr/>
          <p:nvPr/>
        </p:nvPicPr>
        <p:blipFill>
          <a:blip r:embed="rId1"/>
          <a:stretch/>
        </p:blipFill>
        <p:spPr>
          <a:xfrm>
            <a:off x="1335240" y="1981080"/>
            <a:ext cx="6473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mal 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loning2"/>
          <p:cNvPicPr/>
          <p:nvPr/>
        </p:nvPicPr>
        <p:blipFill>
          <a:blip r:embed="rId2"/>
          <a:stretch/>
        </p:blipFill>
        <p:spPr>
          <a:xfrm>
            <a:off x="1427040" y="1981080"/>
            <a:ext cx="628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roduction of prized animals &amp;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ning genetically-modified organisms (GMOs) such as yeast or bacteria for insuli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endangered species populations or even “de-extinction” of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ning 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4" descr="article-1131349-03392249000005DC-63_468x588.jpg"/>
          <p:cNvPicPr/>
          <p:nvPr/>
        </p:nvPicPr>
        <p:blipFill>
          <a:blip r:embed="rId1"/>
          <a:srcRect l="-68661" t="0" r="-68661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rns of Clo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3" descr="untitled.png"/>
          <p:cNvPicPr/>
          <p:nvPr/>
        </p:nvPicPr>
        <p:blipFill>
          <a:blip r:embed="rId1"/>
          <a:srcRect l="0" t="10579" r="0" b="10579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uman 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uman_cloning"/>
          <p:cNvPicPr/>
          <p:nvPr/>
        </p:nvPicPr>
        <p:blipFill>
          <a:blip r:embed="rId2"/>
          <a:srcRect l="0" t="4460" r="0" b="446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recen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de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IME magazine Health.  Warning: very cute baby mon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ory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ene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NA?  A gene?  A loc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differences between asexual &amp; sexual repro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5" descr="f-d-17725bfed904f7a228c48944e2a864cc575cefe2838fa8d10bbdea7d+IMAGE+IMAGE.1.png"/>
          <p:cNvPicPr/>
          <p:nvPr/>
        </p:nvPicPr>
        <p:blipFill>
          <a:blip r:embed="rId1"/>
          <a:srcRect l="0" t="-82915" r="0" b="-82915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vs. Sex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solar-energy-pros-and-cons-300x200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Reprodu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(through roots or shoots, e.g., strawberry plant, dandelion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ing (e.g., hydra, ye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 (e.g., mushroom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dandelion-root-in-ground"/>
          <p:cNvPicPr/>
          <p:nvPr/>
        </p:nvPicPr>
        <p:blipFill>
          <a:blip r:embed="rId1"/>
          <a:stretch/>
        </p:blipFill>
        <p:spPr>
          <a:xfrm>
            <a:off x="457200" y="1371600"/>
            <a:ext cx="3962520" cy="310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strawberry-runners-300x225"/>
          <p:cNvPicPr/>
          <p:nvPr/>
        </p:nvPicPr>
        <p:blipFill>
          <a:blip r:embed="rId2"/>
          <a:stretch/>
        </p:blipFill>
        <p:spPr>
          <a:xfrm>
            <a:off x="4495680" y="259236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oxford-scientific-green-hydra-budding1320252781957"/>
          <p:cNvPicPr/>
          <p:nvPr/>
        </p:nvPicPr>
        <p:blipFill>
          <a:blip r:embed="rId1"/>
          <a:stretch/>
        </p:blipFill>
        <p:spPr>
          <a:xfrm>
            <a:off x="533520" y="820800"/>
            <a:ext cx="3962160" cy="529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budding-yeast"/>
          <p:cNvPicPr/>
          <p:nvPr/>
        </p:nvPicPr>
        <p:blipFill>
          <a:blip r:embed="rId2"/>
          <a:stretch/>
        </p:blipFill>
        <p:spPr>
          <a:xfrm>
            <a:off x="4572000" y="2365200"/>
            <a:ext cx="388620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ids -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Lic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tree-insect-control-aphid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aphids"/>
          <p:cNvPicPr/>
          <p:nvPr/>
        </p:nvPicPr>
        <p:blipFill>
          <a:blip r:embed="rId2"/>
          <a:stretch/>
        </p:blipFill>
        <p:spPr>
          <a:xfrm>
            <a:off x="4495680" y="2274840"/>
            <a:ext cx="38862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itosis-process-illustration"/>
          <p:cNvPicPr/>
          <p:nvPr/>
        </p:nvPicPr>
        <p:blipFill>
          <a:blip r:embed="rId1"/>
          <a:stretch/>
        </p:blipFill>
        <p:spPr>
          <a:xfrm>
            <a:off x="1969920" y="1371600"/>
            <a:ext cx="527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, Chromat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ingle_to_double_stranded_chromosome"/>
          <p:cNvPicPr/>
          <p:nvPr/>
        </p:nvPicPr>
        <p:blipFill>
          <a:blip r:embed="rId1"/>
          <a:stretch/>
        </p:blipFill>
        <p:spPr>
          <a:xfrm>
            <a:off x="1492200" y="1981080"/>
            <a:ext cx="615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0:48:18Z</dcterms:created>
  <dc:creator>rubina khan</dc:creator>
  <dc:description/>
  <dc:language>en-US</dc:language>
  <cp:lastModifiedBy>rubina khan</cp:lastModifiedBy>
  <dcterms:modified xsi:type="dcterms:W3CDTF">2018-02-06T17:47:20Z</dcterms:modified>
  <cp:revision>58</cp:revision>
  <dc:subject/>
  <dc:title>PowerPoint Presentation</dc:title>
</cp:coreProperties>
</file>